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1C62C8-1C32-4559-AB9A-465C51056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39053E-9628-442E-AF5A-E6D9849DE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798BF4-BF5E-48D7-980E-410A4086B8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52E-C9E8-488F-BA07-033967F5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D70-659E-4B3C-B9BB-DAAF1C3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712-83C9-47B1-AD6F-F0C84E13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36D-1708-457D-9F5B-F3B855ED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DBE-CB38-4E7D-8B45-5A8474F8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61F-142E-41DB-A1C5-87D455C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B82-B8D7-4A33-B59E-2D472730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DDB-57A0-4A97-9EE8-5FCF9D70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DB9-B102-4986-A16B-C2693EFD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352-8A96-4307-9A3E-9476088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44AA-6FB4-4EE1-8882-3329CB2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EE6-6A17-439B-B236-C8B8563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1F3-4671-4EC4-8B1E-95B6EEFE2A6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023C-B23A-4C1F-A8A8-5101A0AE1AD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3280" y="1856880"/>
            <a:ext cx="82803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Arial"/>
              </a:rPr>
              <a:t>Изменение механизма исполнения судебных актов по взысканию денежных средств с муниципальных учреждений (казенных, бюджетных, автономных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44720" y="5071680"/>
            <a:ext cx="7199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ьника юридического отд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партамента финансов администрации г. Пер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дусовой Ирины Анатольев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43080" y="600084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  августа 2010 г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Перм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349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827720" y="163440"/>
            <a:ext cx="67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епартамент финансов администрации города Пер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33F-D84B-469D-BF0D-EB2EE1F2DFA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9280" y="65160"/>
            <a:ext cx="93528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32000" y="0"/>
            <a:ext cx="68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партамент финансов администрации города Пер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571760" y="1071720"/>
            <a:ext cx="230328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Казенные учреждения и бюджетные учреждения-получатели бюджетных средст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71760" y="2286000"/>
            <a:ext cx="230328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242.5 Бюджетного кодекса РФ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2920" y="2286000"/>
            <a:ext cx="1368360" cy="766080"/>
          </a:xfrm>
          <a:prstGeom prst="rect">
            <a:avLst/>
          </a:prstGeom>
          <a:solidFill>
            <a:srgbClr val="cc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Правовое регулирование исполнения судебных ак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000680" y="1071720"/>
            <a:ext cx="230472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Бюджетные учреждения - получатели субсид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000680" y="2286000"/>
            <a:ext cx="2304720" cy="84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20 статьи 30 Федерального закона от 08.05.2010 N 83-ФЗ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429240" y="1071720"/>
            <a:ext cx="230364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Автономные учрежд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429240" y="2286000"/>
            <a:ext cx="2303640" cy="97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02.10.2007 N 229-Ф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Об исполнительном производстве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863640" y="214200"/>
            <a:ext cx="8280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1.Механизм исполнения судебных актов в зависимости от типов муниципальных учрежд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142920" y="3500280"/>
            <a:ext cx="1368360" cy="912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рган, осуществляющий учет и хранение исполнительных докум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1571760" y="3500280"/>
            <a:ext cx="23032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, осуществляющий ведение лицевых счетов (департамент финанс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4000680" y="3576960"/>
            <a:ext cx="2303280" cy="710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, осуществляющий ведение лицевых счетов (департамент финанс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6429240" y="3571920"/>
            <a:ext cx="23036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отдел федеральной службы судебных пристав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142920" y="4857840"/>
            <a:ext cx="1368360" cy="912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Срок исполнения поступивших на исполнение исполнительных лис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1643040" y="4929120"/>
            <a:ext cx="2303640" cy="60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месяца со дня поступления исполнительных документов в  департамент финан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4071960" y="4786200"/>
            <a:ext cx="2303280" cy="60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рабочих дней со дня получения уведомления департамента финан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Скругленный прямоугольник 20"/>
          <p:cNvSpPr/>
          <p:nvPr/>
        </p:nvSpPr>
        <p:spPr>
          <a:xfrm>
            <a:off x="6500880" y="485784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танавливается  судебным приставом-исполнител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Стрелка вниз 29"/>
          <p:cNvSpPr/>
          <p:nvPr/>
        </p:nvSpPr>
        <p:spPr>
          <a:xfrm>
            <a:off x="4857840" y="5429160"/>
            <a:ext cx="484200" cy="14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4071960" y="5572080"/>
            <a:ext cx="2303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средств – не позднее следующего рабочего дня после дня поступления средств на определенный должником л/сч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009-6D64-40F0-98F9-7B98CA3766C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9280" y="65160"/>
            <a:ext cx="739800" cy="968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403280" y="0"/>
            <a:ext cx="68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партамент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финансов администрации города Пер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71760" y="1143000"/>
            <a:ext cx="230328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Казенные учреждения и бюджетные учреждения - получатели бюджетных средст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71760" y="2000160"/>
            <a:ext cx="2303280" cy="16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едостаточности у  должника средств для оплаты ИЛ ,  ГРБС  обеспечивает выделение лимитов бюджетных обязательств в соответствии с запросом-требование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БС несет субсидиарную ответственность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2286000"/>
            <a:ext cx="147636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Участие учредителя  (ГРБСа)  в исполнении судебных ак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071960" y="1143000"/>
            <a:ext cx="230508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Бюджетные учреждения, не являющиеся получателями бюджетных средст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500880" y="1143000"/>
            <a:ext cx="2303280" cy="755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</a:rPr>
              <a:t>Автономные учрежд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571760" y="4500720"/>
            <a:ext cx="23032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становление  операций на всех лицевых счетах должника  в случае неисполнения  в 10- ти дневный срок, а также в течение общего срока на исполнение – 3 мес.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0" y="4572000"/>
            <a:ext cx="1476360" cy="766080"/>
          </a:xfrm>
          <a:prstGeom prst="rect">
            <a:avLst/>
          </a:prstGeom>
          <a:solidFill>
            <a:srgbClr val="ccffc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Ответственность за неисполнение исполнительного доку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071960" y="4500720"/>
            <a:ext cx="230328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становление  операций на лицевых счетах должника в случае непредставления  пл. документа в 30-дневный срок  либо после поступления средств на лицевой счет в  течени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мес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900000" y="333360"/>
            <a:ext cx="82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1. Механизм исполнения судебных актов в зависимости от типов муниципальных учрежде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071960" y="2000160"/>
            <a:ext cx="2303280" cy="25077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507760"/>
              <a:gd name="textAreaBottom" fmla="*/ 2395440 h 2507760"/>
            </a:gdLst>
            <a:ahLst/>
            <a:rect l="textAreaLeft" t="textAreaTop" r="textAreaRight" b="textAreaBottom"/>
            <a:pathLst>
              <a:path w="21600" h="23517">
                <a:moveTo>
                  <a:pt x="3600" y="0"/>
                </a:moveTo>
                <a:arcTo wR="3600" hR="3600" stAng="16200000" swAng="-5400000"/>
                <a:lnTo>
                  <a:pt x="0" y="19917"/>
                </a:lnTo>
                <a:arcTo wR="3600" hR="3600" stAng="10800000" swAng="-5400000"/>
                <a:lnTo>
                  <a:pt x="18000" y="23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е самостоятельно  оплачивает исполнительные листы,  определяя, с какого лицевого счета должно производиться списание денежных средств для исполнения  ИЛ. Учредитель не несет субсидиарную ответствен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Скругленный прямоугольник 16"/>
          <p:cNvSpPr/>
          <p:nvPr/>
        </p:nvSpPr>
        <p:spPr>
          <a:xfrm>
            <a:off x="6500880" y="2000160"/>
            <a:ext cx="2303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редитель не несет субсидиарную ответств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Скругленный прямоугольник 17"/>
          <p:cNvSpPr/>
          <p:nvPr/>
        </p:nvSpPr>
        <p:spPr>
          <a:xfrm>
            <a:off x="6500880" y="4500720"/>
            <a:ext cx="2303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е с законодательство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 исполнительном производст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0" name="Прямая со стрелкой 19"/>
          <p:cNvCxnSpPr/>
          <p:nvPr/>
        </p:nvCxnSpPr>
        <p:spPr>
          <a:xfrm>
            <a:off x="5642640" y="5928840"/>
            <a:ext cx="83556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Скругленный прямоугольник 21"/>
          <p:cNvSpPr/>
          <p:nvPr/>
        </p:nvSpPr>
        <p:spPr>
          <a:xfrm>
            <a:off x="6500880" y="5857920"/>
            <a:ext cx="230328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 истечении 3 мес. ФССП обращает взыскание на имущество  должни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16680" y="1373400"/>
            <a:ext cx="7023600" cy="1624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Verdana"/>
              </a:rPr>
              <a:t>Данный механизм исполнения судебных актов вступает в сил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7030a0"/>
                </a:solidFill>
                <a:latin typeface="Verdana"/>
              </a:rPr>
              <a:t>с 1 января 2011 г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0D3-83D3-4395-B363-96ED561B091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50920" y="65160"/>
            <a:ext cx="628560" cy="823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692360" y="0"/>
            <a:ext cx="67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епартамент финансов администрации города Пер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849400" y="428616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9:37:02Z</dcterms:created>
  <dc:creator>333-2</dc:creator>
  <dc:description/>
  <dc:language>en-US</dc:language>
  <cp:lastModifiedBy>urist</cp:lastModifiedBy>
  <dcterms:modified xsi:type="dcterms:W3CDTF">2010-08-13T04:05:57Z</dcterms:modified>
  <cp:revision>162</cp:revision>
  <dc:subject/>
  <dc:title>Слайд 1</dc:title>
</cp:coreProperties>
</file>