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1600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FFCD-4FA8-4623-AEDA-6FC31FE6B6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5877-1EB9-409E-80F9-EFD7D83BBF9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43D-E3C7-4D3F-BA63-909460DD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BC3C-B515-420F-8B54-30427CF6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0D9-E527-42ED-8C62-EA935363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91B4-0F2E-4EE0-8E4E-4C3A0689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6C85-FC9D-44D4-91FF-26F913F2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FB6E-E971-45AC-952A-2377DF1E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9905-306C-432D-B2DB-3D56D29D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FCFF-E95F-42AF-BD8E-1898926C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8E4B-B0C0-418C-B777-BE891753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F704-F691-43E5-A45E-86840EF5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DFB7-A90D-4E9B-90FF-765579AC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C53-D411-40E1-9FDD-5CACB808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81DC-5AD2-45DF-9C29-58E51B58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6310-2701-403D-8965-616E4D88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AEAA-D2EF-4830-BD08-F949BFC6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11AA-7117-4BAF-8060-04A7C2DD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558C-F2AF-4192-A832-09C11211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CA5E5-91FE-40CB-A44C-814AFBB2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6AD5F-C661-426B-A706-30AD7AD6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D9218-30D0-4E70-84C1-CC709564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AF397-556B-4A80-9186-8F599AFF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23751-9F6C-4FEF-8EE5-65F46217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7A30-32F6-47CA-8FD2-FEF7533C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9F604-27DC-4E8B-B553-51FC4C5C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71B25-7591-4C19-9496-2B950C5F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C1588-FCF4-418C-9B95-22225F43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92283-2A4B-42CC-8A65-7364F404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C270F-5945-47B7-9F29-479EBF25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7A6F1-4B1D-4936-BD7C-25F9675C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4FB8E-159E-4EA7-9ED1-0BD402A0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F6E3-D8EF-4DAC-8A04-1A48AB19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F4D-0F2A-4975-81AD-FD0D96FB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055-5605-4755-81C2-2C01C347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A4A-3C40-429C-9F2B-AD0FE6F2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282-5E61-4D92-98BE-D353EBEB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E9D-7172-47E7-8E47-21DF08E2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C698-59B0-4019-AEFA-5F314892EA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707A-3487-4CB4-865C-4D9A9A9C28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FB62-167A-449E-ADA2-5FEAAEACCC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рганизация бухгалтерского учета и отчетности в целях обеспечения деятельности государственных и муниципальных учрежден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1540080" y="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Департамент финансов администрации города Пер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1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28920" cy="823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6"/>
          <p:cNvSpPr/>
          <p:nvPr/>
        </p:nvSpPr>
        <p:spPr>
          <a:xfrm>
            <a:off x="594000" y="6237360"/>
            <a:ext cx="85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окладчик – Начальник управления учета и отчетности В.А. Кузьму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85880" y="304920"/>
            <a:ext cx="7789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Концепция организации государственно бухгалтерской отчет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99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28920" cy="8236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2"/>
          <p:cNvSpPr/>
          <p:nvPr/>
        </p:nvSpPr>
        <p:spPr>
          <a:xfrm>
            <a:off x="1540080" y="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Департамент финансов администрации города Пер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72" name="Прямая со стрелкой 7"/>
          <p:cNvCxnSpPr/>
          <p:nvPr/>
        </p:nvCxnSpPr>
        <p:spPr>
          <a:xfrm>
            <a:off x="3295440" y="8010000"/>
            <a:ext cx="324360" cy="2520"/>
          </a:xfrm>
          <a:prstGeom prst="straightConnector1">
            <a:avLst/>
          </a:prstGeom>
          <a:ln w="9360">
            <a:solidFill>
              <a:srgbClr val="9faebd"/>
            </a:solidFill>
            <a:miter/>
            <a:tailEnd len="med" type="arrow" w="med"/>
          </a:ln>
        </p:spPr>
      </p:cxnSp>
      <p:cxnSp>
        <p:nvCxnSpPr>
          <p:cNvPr id="173" name="Прямая со стрелкой 8"/>
          <p:cNvCxnSpPr/>
          <p:nvPr/>
        </p:nvCxnSpPr>
        <p:spPr>
          <a:xfrm>
            <a:off x="3285000" y="8019720"/>
            <a:ext cx="315000" cy="639000"/>
          </a:xfrm>
          <a:prstGeom prst="straightConnector1">
            <a:avLst/>
          </a:prstGeom>
          <a:ln w="9360">
            <a:solidFill>
              <a:srgbClr val="9faebd"/>
            </a:solidFill>
            <a:miter/>
            <a:tailEnd len="med" type="arrow" w="med"/>
          </a:ln>
        </p:spPr>
      </p:cxnSp>
      <p:cxnSp>
        <p:nvCxnSpPr>
          <p:cNvPr id="174" name="Прямая со стрелкой 9"/>
          <p:cNvCxnSpPr/>
          <p:nvPr/>
        </p:nvCxnSpPr>
        <p:spPr>
          <a:xfrm>
            <a:off x="3276720" y="8876880"/>
            <a:ext cx="334080" cy="2520"/>
          </a:xfrm>
          <a:prstGeom prst="straightConnector1">
            <a:avLst/>
          </a:prstGeom>
          <a:ln w="9360">
            <a:solidFill>
              <a:srgbClr val="9faebd"/>
            </a:solidFill>
            <a:miter/>
            <a:tailEnd len="med" type="arrow" w="med"/>
          </a:ln>
        </p:spPr>
      </p:cxnSp>
      <p:cxnSp>
        <p:nvCxnSpPr>
          <p:cNvPr id="175" name="Прямая со стрелкой 10"/>
          <p:cNvCxnSpPr/>
          <p:nvPr/>
        </p:nvCxnSpPr>
        <p:spPr>
          <a:xfrm>
            <a:off x="3286080" y="9906120"/>
            <a:ext cx="324720" cy="2160"/>
          </a:xfrm>
          <a:prstGeom prst="straightConnector1">
            <a:avLst/>
          </a:prstGeom>
          <a:ln w="9360">
            <a:solidFill>
              <a:srgbClr val="9faebd"/>
            </a:solidFill>
            <a:miter/>
            <a:tailEnd len="med" type="arrow" w="med"/>
          </a:ln>
        </p:spPr>
      </p:cxnSp>
      <p:cxnSp>
        <p:nvCxnSpPr>
          <p:cNvPr id="176" name="Прямая со стрелкой 11"/>
          <p:cNvCxnSpPr/>
          <p:nvPr/>
        </p:nvCxnSpPr>
        <p:spPr>
          <a:xfrm flipV="1">
            <a:off x="3285000" y="9086040"/>
            <a:ext cx="315000" cy="810360"/>
          </a:xfrm>
          <a:prstGeom prst="straightConnector1">
            <a:avLst/>
          </a:prstGeom>
          <a:ln w="9360">
            <a:solidFill>
              <a:srgbClr val="9faebd"/>
            </a:solidFill>
            <a:miter/>
            <a:tailEnd len="med" type="arrow" w="med"/>
          </a:ln>
        </p:spPr>
      </p:cxnSp>
      <p:cxnSp>
        <p:nvCxnSpPr>
          <p:cNvPr id="177" name="Прямая со стрелкой 12"/>
          <p:cNvCxnSpPr/>
          <p:nvPr/>
        </p:nvCxnSpPr>
        <p:spPr>
          <a:xfrm>
            <a:off x="5124240" y="8001000"/>
            <a:ext cx="276840" cy="2160"/>
          </a:xfrm>
          <a:prstGeom prst="straightConnector1">
            <a:avLst/>
          </a:prstGeom>
          <a:ln w="9360">
            <a:solidFill>
              <a:srgbClr val="9faebd"/>
            </a:solidFill>
            <a:miter/>
            <a:tailEnd len="med" type="arrow" w="med"/>
          </a:ln>
        </p:spPr>
      </p:cxnSp>
      <p:cxnSp>
        <p:nvCxnSpPr>
          <p:cNvPr id="178" name="Прямая со стрелкой 13"/>
          <p:cNvCxnSpPr/>
          <p:nvPr/>
        </p:nvCxnSpPr>
        <p:spPr>
          <a:xfrm>
            <a:off x="5124600" y="8876880"/>
            <a:ext cx="267120" cy="10440"/>
          </a:xfrm>
          <a:prstGeom prst="straightConnector1">
            <a:avLst/>
          </a:prstGeom>
          <a:ln w="9360">
            <a:solidFill>
              <a:srgbClr val="9faebd"/>
            </a:solidFill>
            <a:miter/>
            <a:tailEnd len="med" type="arrow" w="med"/>
          </a:ln>
        </p:spPr>
      </p:cxnSp>
      <p:cxnSp>
        <p:nvCxnSpPr>
          <p:cNvPr id="179" name="Прямая со стрелкой 14"/>
          <p:cNvCxnSpPr/>
          <p:nvPr/>
        </p:nvCxnSpPr>
        <p:spPr>
          <a:xfrm>
            <a:off x="5124240" y="9896040"/>
            <a:ext cx="276840" cy="10440"/>
          </a:xfrm>
          <a:prstGeom prst="straightConnector1">
            <a:avLst/>
          </a:prstGeom>
          <a:ln w="9360">
            <a:solidFill>
              <a:srgbClr val="9faebd"/>
            </a:solidFill>
            <a:miter/>
            <a:tailEnd len="med" type="arrow" w="med"/>
          </a:ln>
        </p:spPr>
      </p:cxnSp>
      <p:cxnSp>
        <p:nvCxnSpPr>
          <p:cNvPr id="180" name="Прямая со стрелкой 15"/>
          <p:cNvCxnSpPr/>
          <p:nvPr/>
        </p:nvCxnSpPr>
        <p:spPr>
          <a:xfrm>
            <a:off x="6981840" y="7991280"/>
            <a:ext cx="343440" cy="572040"/>
          </a:xfrm>
          <a:prstGeom prst="straightConnector1">
            <a:avLst/>
          </a:prstGeom>
          <a:ln w="9360">
            <a:solidFill>
              <a:srgbClr val="9faebd"/>
            </a:solidFill>
            <a:miter/>
            <a:tailEnd len="med" type="arrow" w="med"/>
          </a:ln>
        </p:spPr>
      </p:cxnSp>
      <p:cxnSp>
        <p:nvCxnSpPr>
          <p:cNvPr id="181" name="Прямая со стрелкой 16"/>
          <p:cNvCxnSpPr/>
          <p:nvPr/>
        </p:nvCxnSpPr>
        <p:spPr>
          <a:xfrm flipV="1">
            <a:off x="6981840" y="9172080"/>
            <a:ext cx="334080" cy="610560"/>
          </a:xfrm>
          <a:prstGeom prst="straightConnector1">
            <a:avLst/>
          </a:prstGeom>
          <a:ln w="9360">
            <a:solidFill>
              <a:srgbClr val="9faebd"/>
            </a:solidFill>
            <a:miter/>
            <a:tailEnd len="med" type="arrow" w="med"/>
          </a:ln>
        </p:spPr>
      </p:cxnSp>
      <p:cxnSp>
        <p:nvCxnSpPr>
          <p:cNvPr id="182" name="Прямая со стрелкой 17"/>
          <p:cNvCxnSpPr/>
          <p:nvPr/>
        </p:nvCxnSpPr>
        <p:spPr>
          <a:xfrm>
            <a:off x="6981480" y="8886960"/>
            <a:ext cx="362520" cy="2160"/>
          </a:xfrm>
          <a:prstGeom prst="straightConnector1">
            <a:avLst/>
          </a:prstGeom>
          <a:ln w="9360">
            <a:solidFill>
              <a:srgbClr val="9faebd"/>
            </a:solidFill>
            <a:miter/>
            <a:tailEnd len="med" type="arrow" w="med"/>
          </a:ln>
        </p:spPr>
      </p:cxnSp>
      <p:sp>
        <p:nvSpPr>
          <p:cNvPr id="183" name="Прямоугольник 25"/>
          <p:cNvSpPr/>
          <p:nvPr/>
        </p:nvSpPr>
        <p:spPr>
          <a:xfrm>
            <a:off x="857160" y="2000160"/>
            <a:ext cx="1357560" cy="714600"/>
          </a:xfrm>
          <a:prstGeom prst="rect">
            <a:avLst/>
          </a:prstGeom>
          <a:solidFill>
            <a:srgbClr val="ffbebe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Прямоугольник 26"/>
          <p:cNvSpPr/>
          <p:nvPr/>
        </p:nvSpPr>
        <p:spPr>
          <a:xfrm>
            <a:off x="3214800" y="2000160"/>
            <a:ext cx="1285920" cy="714600"/>
          </a:xfrm>
          <a:prstGeom prst="rect">
            <a:avLst/>
          </a:prstGeom>
          <a:solidFill>
            <a:srgbClr val="ffbebe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ГРБС/Уч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Прямоугольник 27"/>
          <p:cNvSpPr/>
          <p:nvPr/>
        </p:nvSpPr>
        <p:spPr>
          <a:xfrm>
            <a:off x="5429160" y="2000160"/>
            <a:ext cx="1285920" cy="714600"/>
          </a:xfrm>
          <a:prstGeom prst="rect">
            <a:avLst/>
          </a:prstGeom>
          <a:solidFill>
            <a:srgbClr val="ffbebe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Ф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Прямоугольник 28"/>
          <p:cNvSpPr/>
          <p:nvPr/>
        </p:nvSpPr>
        <p:spPr>
          <a:xfrm>
            <a:off x="714240" y="3071880"/>
            <a:ext cx="1714680" cy="7858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ухгалтерская отчетность А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Прямоугольник 29"/>
          <p:cNvSpPr/>
          <p:nvPr/>
        </p:nvSpPr>
        <p:spPr>
          <a:xfrm>
            <a:off x="3000240" y="3071880"/>
            <a:ext cx="1714680" cy="7858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с. бух. отчетность А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Прямоугольник 30"/>
          <p:cNvSpPr/>
          <p:nvPr/>
        </p:nvSpPr>
        <p:spPr>
          <a:xfrm>
            <a:off x="5214960" y="3071880"/>
            <a:ext cx="1714320" cy="7858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с. бух. отчетность А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Прямоугольник 31"/>
          <p:cNvSpPr/>
          <p:nvPr/>
        </p:nvSpPr>
        <p:spPr>
          <a:xfrm>
            <a:off x="714240" y="4071960"/>
            <a:ext cx="1714680" cy="8571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юджетная отчетность К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Прямоугольник 32"/>
          <p:cNvSpPr/>
          <p:nvPr/>
        </p:nvSpPr>
        <p:spPr>
          <a:xfrm>
            <a:off x="3000240" y="4071960"/>
            <a:ext cx="1714680" cy="8571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с. бюджетная отчетность К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Прямоугольник 33"/>
          <p:cNvSpPr/>
          <p:nvPr/>
        </p:nvSpPr>
        <p:spPr>
          <a:xfrm>
            <a:off x="5214960" y="4071960"/>
            <a:ext cx="1714320" cy="8571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с. бюдж. отчетность исп. бюдже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Прямоугольник 34"/>
          <p:cNvSpPr/>
          <p:nvPr/>
        </p:nvSpPr>
        <p:spPr>
          <a:xfrm>
            <a:off x="714240" y="5214960"/>
            <a:ext cx="1714680" cy="7858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ухгалтерская отчетность Б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Прямоугольник 35"/>
          <p:cNvSpPr/>
          <p:nvPr/>
        </p:nvSpPr>
        <p:spPr>
          <a:xfrm>
            <a:off x="3000240" y="5214960"/>
            <a:ext cx="1714680" cy="7858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с. бух. отчетность Б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36"/>
          <p:cNvSpPr/>
          <p:nvPr/>
        </p:nvSpPr>
        <p:spPr>
          <a:xfrm>
            <a:off x="5214960" y="5214960"/>
            <a:ext cx="1714320" cy="7858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с. бух. отчетность Б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Прямоугольник 37"/>
          <p:cNvSpPr/>
          <p:nvPr/>
        </p:nvSpPr>
        <p:spPr>
          <a:xfrm>
            <a:off x="7429680" y="3857760"/>
            <a:ext cx="1071360" cy="1285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ч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П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6" name="Прямая со стрелкой 40"/>
          <p:cNvCxnSpPr>
            <a:stCxn id="186" idx="3"/>
            <a:endCxn id="187" idx="1"/>
          </p:cNvCxnSpPr>
          <p:nvPr/>
        </p:nvCxnSpPr>
        <p:spPr>
          <a:xfrm>
            <a:off x="2428560" y="3465000"/>
            <a:ext cx="572040" cy="25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97" name="Прямая со стрелкой 42"/>
          <p:cNvCxnSpPr>
            <a:stCxn id="186" idx="3"/>
          </p:cNvCxnSpPr>
          <p:nvPr/>
        </p:nvCxnSpPr>
        <p:spPr>
          <a:xfrm>
            <a:off x="2428560" y="3465360"/>
            <a:ext cx="572040" cy="8215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98" name="Прямая со стрелкой 46"/>
          <p:cNvCxnSpPr>
            <a:stCxn id="189" idx="3"/>
            <a:endCxn id="190" idx="1"/>
          </p:cNvCxnSpPr>
          <p:nvPr/>
        </p:nvCxnSpPr>
        <p:spPr>
          <a:xfrm>
            <a:off x="2428560" y="4500720"/>
            <a:ext cx="572040" cy="21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99" name="Прямая со стрелкой 48"/>
          <p:cNvCxnSpPr>
            <a:stCxn id="192" idx="3"/>
            <a:endCxn id="193" idx="1"/>
          </p:cNvCxnSpPr>
          <p:nvPr/>
        </p:nvCxnSpPr>
        <p:spPr>
          <a:xfrm>
            <a:off x="2428560" y="5608800"/>
            <a:ext cx="572040" cy="21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0" name="Прямая со стрелкой 50"/>
          <p:cNvCxnSpPr>
            <a:stCxn id="192" idx="3"/>
          </p:cNvCxnSpPr>
          <p:nvPr/>
        </p:nvCxnSpPr>
        <p:spPr>
          <a:xfrm flipV="1">
            <a:off x="2428560" y="4714200"/>
            <a:ext cx="572040" cy="8946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1" name="Прямая со стрелкой 52"/>
          <p:cNvCxnSpPr>
            <a:stCxn id="187" idx="3"/>
            <a:endCxn id="188" idx="1"/>
          </p:cNvCxnSpPr>
          <p:nvPr/>
        </p:nvCxnSpPr>
        <p:spPr>
          <a:xfrm>
            <a:off x="4714560" y="3465000"/>
            <a:ext cx="500760" cy="25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2" name="Прямая со стрелкой 54"/>
          <p:cNvCxnSpPr>
            <a:stCxn id="190" idx="3"/>
            <a:endCxn id="191" idx="1"/>
          </p:cNvCxnSpPr>
          <p:nvPr/>
        </p:nvCxnSpPr>
        <p:spPr>
          <a:xfrm>
            <a:off x="4714560" y="4500720"/>
            <a:ext cx="500760" cy="21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3" name="Прямая со стрелкой 56"/>
          <p:cNvCxnSpPr>
            <a:stCxn id="193" idx="3"/>
            <a:endCxn id="194" idx="1"/>
          </p:cNvCxnSpPr>
          <p:nvPr/>
        </p:nvCxnSpPr>
        <p:spPr>
          <a:xfrm>
            <a:off x="4714560" y="5608800"/>
            <a:ext cx="500760" cy="21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4" name="Прямая со стрелкой 58"/>
          <p:cNvCxnSpPr>
            <a:stCxn id="191" idx="3"/>
            <a:endCxn id="195" idx="1"/>
          </p:cNvCxnSpPr>
          <p:nvPr/>
        </p:nvCxnSpPr>
        <p:spPr>
          <a:xfrm>
            <a:off x="6929280" y="4500720"/>
            <a:ext cx="501120" cy="21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5" name="Прямая со стрелкой 61"/>
          <p:cNvCxnSpPr>
            <a:stCxn id="188" idx="3"/>
          </p:cNvCxnSpPr>
          <p:nvPr/>
        </p:nvCxnSpPr>
        <p:spPr>
          <a:xfrm>
            <a:off x="6929280" y="3465360"/>
            <a:ext cx="501120" cy="7502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06" name="Прямая со стрелкой 63"/>
          <p:cNvCxnSpPr>
            <a:stCxn id="194" idx="3"/>
          </p:cNvCxnSpPr>
          <p:nvPr/>
        </p:nvCxnSpPr>
        <p:spPr>
          <a:xfrm flipV="1">
            <a:off x="6929280" y="4785480"/>
            <a:ext cx="501120" cy="8233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79280" y="65160"/>
            <a:ext cx="479520" cy="6271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332000" y="0"/>
            <a:ext cx="682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Департамент финансов администрации города Пер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755640" y="407664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415880" y="33336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Verdana"/>
              </a:rPr>
              <a:t>   </a:t>
            </a:r>
            <a:r>
              <a:rPr b="1" lang="ru-RU" sz="1800" spc="-1" strike="noStrike">
                <a:solidFill>
                  <a:srgbClr val="cc3300"/>
                </a:solidFill>
                <a:latin typeface="Verdana"/>
              </a:rPr>
              <a:t>Публикация отчетности в сети Интерн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0" y="1268280"/>
            <a:ext cx="914400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редительные документы муниципального учреждения;</a:t>
            </a:r>
            <a:br>
              <a:rPr sz="1600"/>
            </a:b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свидетельство о государственной регистрации муниципального учреждения;</a:t>
            </a:r>
            <a:br>
              <a:rPr sz="1600"/>
            </a:b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) решение учредителя о создании муниципального учреждения;</a:t>
            </a:r>
            <a:br>
              <a:rPr sz="1600"/>
            </a:b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) решение учредителя о назначении руководителя муниципального учреждения;</a:t>
            </a:r>
            <a:br>
              <a:rPr sz="1600"/>
            </a:b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) положения о филиалах, представительствах муниципального учреждения;</a:t>
            </a:r>
            <a:br>
              <a:rPr sz="1600"/>
            </a:b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6) план финансово-хозяйственной деятельности муниципального учреждения;</a:t>
            </a:r>
            <a:br>
              <a:rPr sz="1600"/>
            </a:b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7) годовая бухгалтерская отчетность муниципального учреждения;</a:t>
            </a:r>
            <a:br>
              <a:rPr sz="1600"/>
            </a:b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8) сведения о проведенных в отношении муниципального учреждения контрольных мероприятиях и их результатах;</a:t>
            </a:r>
            <a:br>
              <a:rPr sz="1600"/>
            </a:b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9) муниципальное задание на оказание услуг (выполнение работ);</a:t>
            </a:r>
            <a:br>
              <a:rPr sz="1600"/>
            </a:b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0) отчет о результатах своей деятельности и об использовании закрепленного за ними муниципального имуще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0" y="6237360"/>
            <a:ext cx="914400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ведения планируется размещать в сети интернет через Управление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929520" y="692280"/>
            <a:ext cx="754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Verdana"/>
              </a:rPr>
              <a:t>С вступлением  83-ФЗ в силу в открытом доступ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Verdana"/>
              </a:rPr>
              <a:t>в сети Интернет публикуются следующие сведения о учреждениях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92000" y="404280"/>
            <a:ext cx="7894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блица сравнительного анализа налоговой нагрузки на бюджетные учреждения (с учетом нового правового статуса), автономные учреждения и казен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28920" cy="8236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1577520" y="38160"/>
            <a:ext cx="5327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3300"/>
                </a:solidFill>
                <a:latin typeface="Tahoma"/>
              </a:rPr>
              <a:t>Департамент финансов администрации города Перм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79280" y="1125360"/>
          <a:ext cx="8713800" cy="5575320"/>
        </p:xfrm>
        <a:graphic>
          <a:graphicData uri="http://schemas.openxmlformats.org/drawingml/2006/table">
            <a:tbl>
              <a:tblPr/>
              <a:tblGrid>
                <a:gridCol w="1368360"/>
                <a:gridCol w="2519640"/>
                <a:gridCol w="2881080"/>
                <a:gridCol w="1944720"/>
              </a:tblGrid>
              <a:tr h="64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ное учрежд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ое учреждени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расширенным объемом пра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енное учрежд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53920"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Д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платных услу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80000" marR="18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учетом льгот, установленных ст. 149 НК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учетом льгот, установленных ст. 149 НК РФ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 учетом льгот, установленных ст. 149 НК РФ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520"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Д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арен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80000" marR="18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0" rIns="18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уплачиваю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латит арендатор – налоговый агент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80000" marR="18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прибы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убсидия в налогооблагаемую базу не включается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убсидия в налогооблагаемую базу не включается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уплачивают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логооблагаемая база отсутствует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поошлина за наименование «Россия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и регистрации учредительных документо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и регистрации учредительных документо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уплачиваю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ощенная система налогообложе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Применяет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вправе применя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вправе применя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имущество, земельный нало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расходы на уплату налога на недвижимое имущество и особо ценное движимое имущество включены в сумму субсидии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расходы на уплату налога на недвижимое имущество и особо ценное движимое имущество включены в сумму субсидии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плачивают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за счет доведенных им на эти цели ЛБО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6920" y="304920"/>
            <a:ext cx="7748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латежи по обычной и упрощенной системе налогообложе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577520" y="38160"/>
            <a:ext cx="5327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3300"/>
                </a:solidFill>
                <a:latin typeface="Tahoma"/>
              </a:rPr>
              <a:t>Департамент финансов администрации города Перм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28920" cy="82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539640" y="1773360"/>
          <a:ext cx="8001000" cy="4392360"/>
        </p:xfrm>
        <a:graphic>
          <a:graphicData uri="http://schemas.openxmlformats.org/drawingml/2006/table">
            <a:tbl>
              <a:tblPr/>
              <a:tblGrid>
                <a:gridCol w="4680000"/>
                <a:gridCol w="1657440"/>
                <a:gridCol w="166356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логи (взнос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ычная система налогооб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С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лог на 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диный налог, уплачиваемый в связи с применением УС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Д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лог на иму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емельный на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аховые взн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85880" y="2500200"/>
            <a:ext cx="76723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2892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57260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Основные нормы, формирующие концепцию организации учета и отчетности</a:t>
            </a:r>
            <a:br>
              <a:rPr sz="2500"/>
            </a:b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77800" y="1760400"/>
            <a:ext cx="798984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едеральный закон 129-ФЗ «О бухгалтерском учете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татья 8. Основные требования к ведению бухгалтерского               учета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 Бухгалтерский учет ведется организацией непрерывно с момента ее регистрации в качестве юридического лица до реорганизации или ликвидации в порядке, установленном законодательством Российской Федерац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540080" y="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Департамент финансов администрации города Пер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1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28920" cy="8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57160" y="304920"/>
            <a:ext cx="7718400" cy="90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Концепция организации учета и отчетности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1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28920" cy="823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1"/>
          <p:cNvSpPr/>
          <p:nvPr/>
        </p:nvSpPr>
        <p:spPr>
          <a:xfrm>
            <a:off x="1540080" y="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Департамент финансов администрации города Пер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71680" y="1714680"/>
          <a:ext cx="8005680" cy="4441680"/>
        </p:xfrm>
        <a:graphic>
          <a:graphicData uri="http://schemas.openxmlformats.org/drawingml/2006/table">
            <a:tbl>
              <a:tblPr/>
              <a:tblGrid>
                <a:gridCol w="1000080"/>
                <a:gridCol w="2361960"/>
                <a:gridCol w="1071720"/>
                <a:gridCol w="1143000"/>
                <a:gridCol w="2428920"/>
              </a:tblGrid>
              <a:tr h="11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й уров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12240">
                      <a:solidFill>
                        <a:srgbClr val="cc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ДИНЫЙ ПЛАН СЧЕТОВ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осударственных (муниципальных учреждений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12240">
                      <a:solidFill>
                        <a:srgbClr val="cc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-й уров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1224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РАСЛЕВЫЕ СТАНДАР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1224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РАСЛЕВЫЕ СТАНДАР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1224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-й уров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зенные учрежд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кция по бюджетному уче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юджетные учрежд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кция по бухгалтерскому уче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тономные учрежд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кция по бухгалтерскому уче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-й уровен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етная политика хоз. эконом. субъек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етная политика хоз. эконом. субъек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етная политика хоз. эконом. субъек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880" y="304560"/>
            <a:ext cx="77896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Структура счета типового плана счетов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00040" y="1857240"/>
          <a:ext cx="8001000" cy="3857760"/>
        </p:xfrm>
        <a:graphic>
          <a:graphicData uri="http://schemas.openxmlformats.org/drawingml/2006/table">
            <a:tbl>
              <a:tblPr/>
              <a:tblGrid>
                <a:gridCol w="2076480"/>
                <a:gridCol w="5924520"/>
              </a:tblGrid>
              <a:tr h="1117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овой план счетов формируется на базе единого плана счетов с дополнением обязательных аналитических уровней с учетом особенности правового по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12240">
                      <a:solidFill>
                        <a:srgbClr val="cc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17 разря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1224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налитика по классификационному признаку поступлений и выбы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1224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 разря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д финансового обеспе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-23 разря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нтетический счет единого плана сч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-26 разря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С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1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28920" cy="8236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1"/>
          <p:cNvSpPr/>
          <p:nvPr/>
        </p:nvSpPr>
        <p:spPr>
          <a:xfrm>
            <a:off x="1540080" y="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Департамент финансов администрации города Пер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57160" y="304560"/>
            <a:ext cx="77184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Виды финансового обеспечени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14240" y="1714680"/>
          <a:ext cx="8001000" cy="4327200"/>
        </p:xfrm>
        <a:graphic>
          <a:graphicData uri="http://schemas.openxmlformats.org/drawingml/2006/table">
            <a:tbl>
              <a:tblPr/>
              <a:tblGrid>
                <a:gridCol w="928800"/>
                <a:gridCol w="707220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122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юджетное финанс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122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1224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носящая доход деятельность (собственные доходы учрежден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1224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ства во временном распоря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бсидия на выполнение государственного зад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бсидия на иные ц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юджетные инвести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ства от ОМ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1" name="Picture 1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28920" cy="8236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1"/>
          <p:cNvSpPr/>
          <p:nvPr/>
        </p:nvSpPr>
        <p:spPr>
          <a:xfrm>
            <a:off x="1540080" y="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Департамент финансов администрации города Пер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Финансовое обеспечение         учрежден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66640" y="1752480"/>
          <a:ext cx="8001000" cy="4023000"/>
        </p:xfrm>
        <a:graphic>
          <a:graphicData uri="http://schemas.openxmlformats.org/drawingml/2006/table">
            <a:tbl>
              <a:tblPr/>
              <a:tblGrid>
                <a:gridCol w="2994120"/>
                <a:gridCol w="2368440"/>
                <a:gridCol w="2638440"/>
              </a:tblGrid>
              <a:tr h="944640"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тоном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8920" marR="8892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1224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юджетное учреждение, получающее субси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8920" marR="8892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1224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зен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8920" marR="8892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1224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</a:tr>
              <a:tr h="3078360"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4»-Субсидии на госзадание (в т.ч. содержание имущества);                       «5»-Субсидии на иные цели;  «6»-Бюджетные инвести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8920" marR="8892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1224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4»-Субсидии на госзадание (в т.ч. содержание имущества);           «5»-Субсидии на иные цели;                     «6»-Бюджетные инвести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1»-Средства на исполнение публичных денежных обязательств перед физическими лиц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8920" marR="8892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1224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88920" rIns="8892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1»-Исполнение бюджет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юджетные ассигнования,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БО- Бюджетная смета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бсидии запреще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8920" marR="8892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1224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1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28920" cy="823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1540080" y="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Департамент финансов администрации города Пер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57160" y="304920"/>
            <a:ext cx="7718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Новые счета в едином плане счет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28760" y="1643040"/>
          <a:ext cx="8143920" cy="4551480"/>
        </p:xfrm>
        <a:graphic>
          <a:graphicData uri="http://schemas.openxmlformats.org/drawingml/2006/table">
            <a:tbl>
              <a:tblPr/>
              <a:tblGrid>
                <a:gridCol w="1000080"/>
                <a:gridCol w="928440"/>
                <a:gridCol w="6215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122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122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сходы на изготовление готовой продукции, оказание работ, 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122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1224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1224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бестоимость готовой продукции, работ, 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1224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</a:tr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кладные расходы производства готовой продукции, работ, 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щехозяйственные 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держки обр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готовление готовой продукции, работ, 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налитика может устанавливаться в учетной политике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бестоимость готовой прод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ебестоимость 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щехозяйственные 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59" name="Picture 1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28920" cy="8236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1"/>
          <p:cNvSpPr/>
          <p:nvPr/>
        </p:nvSpPr>
        <p:spPr>
          <a:xfrm>
            <a:off x="1540080" y="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Департамент финансов администрации города Пер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57160" y="304920"/>
            <a:ext cx="7718400" cy="90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Группы учета по способу размещения средст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1540080" y="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Департамент финансов администрации города Пер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1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28920" cy="82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566640" y="1752480"/>
          <a:ext cx="8143920" cy="4297320"/>
        </p:xfrm>
        <a:graphic>
          <a:graphicData uri="http://schemas.openxmlformats.org/drawingml/2006/table">
            <a:tbl>
              <a:tblPr/>
              <a:tblGrid>
                <a:gridCol w="2362320"/>
                <a:gridCol w="928800"/>
                <a:gridCol w="928440"/>
                <a:gridCol w="3924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НАНСОВЫЕ АКТИ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122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122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122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122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9169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нежные средства учре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1224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1224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1224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кты учета по группе размещения средств учре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1224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</a:tr>
              <a:tr h="117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нежные средства на лицевых счетах учреждения в органе Федерального казначей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нежные средства в кассе учре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0000">
                        <a:alpha val="20000"/>
                      </a:srgbClr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нежные средства на счетах учреждения в кредитной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99640" y="304920"/>
            <a:ext cx="76755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Основные нормы, формирующие концепцию организации учета и отчетности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92"/>
          <p:cNvSpPr/>
          <p:nvPr/>
        </p:nvSpPr>
        <p:spPr>
          <a:xfrm>
            <a:off x="1540080" y="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Департамент финансов администрации города Пер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99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28920" cy="82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539640" y="2060640"/>
          <a:ext cx="8253360" cy="4213080"/>
        </p:xfrm>
        <a:graphic>
          <a:graphicData uri="http://schemas.openxmlformats.org/drawingml/2006/table">
            <a:tbl>
              <a:tblPr/>
              <a:tblGrid>
                <a:gridCol w="1152720"/>
                <a:gridCol w="2743200"/>
                <a:gridCol w="2125440"/>
                <a:gridCol w="223200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ии сравн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юджетное учреждени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с расширенным объемом пра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тономное учрежд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зенное учрежд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ухгалтерский учет по упрощенному бюджетному плану счет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ухгалтерский уче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юджетный уч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87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чет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ухгалтерская отчетность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тистическая отчетность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чет о результатах деятельности и использования имущества, налоговая отчет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ухгалтерская отчетность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тистическая отчетность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чет о результатах деятельности и использования имущества, налоговая отчет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юджетная отчетность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тистическая отчетность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чет о результатах деятельности и использования имущества, налоговая отчет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92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крыт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дения об учреждении и его деятельности, публикуются в открытом доступе в сети Интернет на общероссийском сайте, который будет создан Федеральным казначейством и запущен с 1 января 2012 г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ст. 32 Закона 7-ФЗ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06:24:46Z</dcterms:created>
  <dc:creator>Dep_Fin</dc:creator>
  <dc:description/>
  <dc:language>en-US</dc:language>
  <cp:lastModifiedBy>333-2</cp:lastModifiedBy>
  <dcterms:modified xsi:type="dcterms:W3CDTF">2010-10-28T03:28:06Z</dcterms:modified>
  <cp:revision>67</cp:revision>
  <dc:subject/>
  <dc:title>Организация бухгалтерского учета и отчетности в целях обеспечения деятельности государственных и муниципальных учреждений</dc:title>
</cp:coreProperties>
</file>